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4FE-A976-42E1-9A24-B508D96A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F73-8C65-4AA3-98A9-212A115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D8E-DA6A-4C2E-A960-8452AA02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D05-13A6-4FF8-BD88-06DC14C4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4538-7C3E-4549-81B3-6A3EFA21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9ABC-4B09-4860-9D69-2BE4D87B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99D-EB47-4449-9B28-C800C4F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25B-4A45-4711-B753-C4A7BA0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287-EF5C-4F56-8720-570A5ED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77F6-FFE6-41DF-9297-4C734B1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29DF-5BAB-4EBC-8653-061B045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B0A-D3FF-41B6-A3B0-E6BBAFE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6F6F-6F3F-416D-937D-6C5CAC5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1A0D-4F13-478E-96DA-A62D08C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53B0-FD48-4CA8-B227-1BE5AAD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2248-DB08-49B2-9040-A9D0E856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D161-D3B0-4867-B197-5E3930A3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945-3F51-40EA-9A77-6406486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CC2-1517-4E14-83DB-FDE367D2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D9B-E4EE-45A1-A537-83322F90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6BF-40C4-4AE8-A4F2-4735E3D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1E0-73A4-445C-8377-F499EF4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51D-16C8-4BC4-9587-7F959EA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148-C634-45C5-8F7F-DDF5525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28C-5F41-4722-B1B5-0FC8BE2DF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8496-6583-4F20-9AB4-561676BAD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y will be provided with more than enough activities for each week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can pick and choose which activities they will use and have the freedom to lead the group discussions in a different direction or present different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opics or activities may be given to teachers through out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urriculum that must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counselors, social workers, psychologists are trained for counseling and will continue to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 a Nut Sh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give the kids an adult and a group of other kids to connect with and get to know on a more personal level.  Advisors should model good decisions and positive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05520" y="22334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small, caring communities of learn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mutually respectful and meaningfu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individual attention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each student with an opportunity to be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s the social and emotional development of every young adole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students with interpersonal communication skills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SA supports advisor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adolescents should have at least one adult at a school in which they can connect with and to serve as their advocate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teachers to be actively involved in the affective development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fun, non stressful portion of a teachers work week in which they can connect with stud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878360" y="1295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the program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gr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just one more thing for me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have to plan for advis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81480" y="207180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something comes up that I am not comfortable dealing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should I contact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762600" y="914400"/>
            <a:ext cx="142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a student asks a question that I don’t have the answer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World say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visory of some type is essential to a successful Middle School progr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we don’t finish the ac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your group about 1 thing they would like to accomplish or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tudents mak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ould YOU Pick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952880" y="2678040"/>
            <a:ext cx="3733920" cy="2190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5800" y="190512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rather have $5,000 to spend any way you want or $1,000,000 that you would have to spend helping others (not a relative or fri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moment discussing what you would pick and why at you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ould YOU Pick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952880" y="2678040"/>
            <a:ext cx="3733920" cy="2190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8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, Let’s say everyone chose to take the million.  Now discuss with your group how you would spend it to help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w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876920" y="169056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don’t wa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MSA~ Seven Essenti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 philosophy and mission that reflect the intellectual and developmental needs and characteristics of young adolesc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n organization and structure that support both academic excellence and person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ne More Thing To Do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Yes, but……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Student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ne More Positive Thing for Our Student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is an organized group of 1 adult and 10-12 students that serves as the students first line of affiliation in their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groups meet twice a week for about 2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lead activities with their groups that promote productive convers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48320" y="2363760"/>
            <a:ext cx="4267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1:07:43Z</dcterms:created>
  <dc:creator>North Rockland Schools</dc:creator>
  <dc:description/>
  <dc:language>en-US</dc:language>
  <cp:lastModifiedBy>North Rockland Schools</cp:lastModifiedBy>
  <dcterms:modified xsi:type="dcterms:W3CDTF">2009-02-10T13:05:54Z</dcterms:modified>
  <cp:revision>11</cp:revision>
  <dc:subject/>
  <dc:title>Advisory Program</dc:title>
</cp:coreProperties>
</file>